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E6C-5622-4A1E-9AB6-ECEE591C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BCA-C848-42D4-B73C-7A699142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DDA-38FE-4718-BD69-DF30090D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860-B966-4B7F-965F-C7E90B7A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8626-1B85-4A55-A5B4-32FD5FEA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7FF2-F414-4D42-99A5-9366F21B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EE30-916D-4CAA-93B1-D93A9BE6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A1D7-12FD-4A75-9973-9C5CEFA7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8A20-A567-4B5B-968C-867AF594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D0A1-9C46-4225-A0AF-B0E6B6DF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6408-402B-41BE-B4D1-58BF0955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F28-FB50-4B62-A241-FE50EE7A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4AA5-8352-4AE1-91C5-7A4C7083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B15B-E426-4CB5-8B1A-89440A10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4AD6-A3CD-4251-9E1E-0E89DBD4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7104-6358-47FC-BDA3-C1FE5DCD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27D6-C028-4394-8E4F-E9504FA6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071-B234-496E-A611-902196ED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B8C-10AC-4960-90B2-E0F69F34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F0E-7D1A-4DBF-9FC0-9208BA60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36A-7987-42D8-A460-C89FF233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963-4B2F-45F7-B3FA-10D2ED34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0BB-87E6-46ED-B9C6-2081BD42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C83-6EED-4955-BDB8-FEDA331F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95AD-6E44-4811-A34B-3515665410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8337-4729-4901-A4E0-F84A3883B7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ylon (198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O. To understand how black people were represented in the 1980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2485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appen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293364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3816360" cy="2849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28573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ch the fil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ake notes whilst watching the fi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different groups of people are being represented in particular black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y been put into the mediated stere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think this is a true reflection of black people at th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ories could we ap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so consider mise-en-sc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Expressions/bod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things as a whole contribute to the representation of black culture within the fil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presentation Baby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e different representations you saw within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068640"/>
            <a:ext cx="4249800" cy="2448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383076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s in Baby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representations you s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theory you could app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 overall representation of black people in the film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8:40:40Z</dcterms:created>
  <dc:creator>martinaos</dc:creator>
  <dc:description/>
  <dc:language>en-US</dc:language>
  <cp:lastModifiedBy>martinaos</cp:lastModifiedBy>
  <dcterms:modified xsi:type="dcterms:W3CDTF">2010-09-23T17:15:57Z</dcterms:modified>
  <cp:revision>2</cp:revision>
  <dc:subject/>
  <dc:title>Babylon (1980)</dc:title>
</cp:coreProperties>
</file>